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D71-5CAF-4D62-B297-4C1A37D7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6A3-947E-4375-BD4C-1EA54BD9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8BA-90C1-45CF-B983-2A37DD3F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C16-24E3-460F-B0FD-89C19BF7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A02-B8E8-4B13-A037-7729F1AF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1CE-D87D-4D68-BB68-70FC31B2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BA8-858F-4AB3-9105-F2F0874B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6D5-EF9D-4D67-8CFF-CED0A9D9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111-007B-4B85-8DC7-78B046F0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0A0-4427-4070-B76C-2C4AFE95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005-C920-4ED9-94EB-9C4D4820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100-2E10-4005-9E87-FB1A2CEE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86DA-14A5-4014-8930-39DF8A11C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9438947PSFJiw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80880"/>
            <a:ext cx="3657600" cy="9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اح الراعي ونعجاتو     بعز البرد وتلجات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دوا كل بواب الريح     تيدفوا الطفل المسي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والسما هديت بالعيد      نجما المتجلي من بع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تيبشر بعهد جديد         تيبشر بعهد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328775GuxgbrFGcs_ph" descr=""/>
          <p:cNvPicPr/>
          <p:nvPr/>
        </p:nvPicPr>
        <p:blipFill>
          <a:blip r:embed="rId2"/>
          <a:stretch/>
        </p:blipFill>
        <p:spPr>
          <a:xfrm>
            <a:off x="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3600" y="304920"/>
            <a:ext cx="3200400" cy="9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ح تستقبل هالليلة       لمغارة أطهر عي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أم وبي وطفل زغير      خلّوا المجد يصير كب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وتغيّر وج الزمان        راح العذاب اللي ك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ينطر عباب الإنسان      ينطر عا باب الإنسان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9:33:27Z</dcterms:created>
  <dc:creator>SUZANNE.MD</dc:creator>
  <dc:description/>
  <dc:language>en-US</dc:language>
  <cp:lastModifiedBy>USER</cp:lastModifiedBy>
  <dcterms:modified xsi:type="dcterms:W3CDTF">2002-12-19T11:14:55Z</dcterms:modified>
  <cp:revision>3</cp:revision>
  <dc:subject/>
  <dc:title>PowerPoint Presentation</dc:title>
</cp:coreProperties>
</file>